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6103-C725-4015-A6F4-9DAB992CD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534C-8425-442C-BAA7-ECFEE033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178A-74A1-440B-9C17-9F3D5CBB1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CAE3-DA6E-4871-9806-A009A8C33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FE9A-F327-486C-A2C7-BA370EB3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F36C-D5CA-4332-9DDC-CDF42182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994D-A2D9-4289-9D03-57CC796E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D71F-74E2-4EA9-A873-A1647517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92B0-7CD3-4B41-9DD4-CC8773E7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BFA2-32EC-4974-AE6C-EFA658E2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6372-FD0A-4B32-90CE-5D7BA0BE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7B3C-D9B9-4F9C-BFF2-0D9565C6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C135-3481-4B5E-B8DB-DBEF2D4FF4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4800" y="1447920"/>
            <a:ext cx="449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Calculating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h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dds Rati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086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086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915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410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705720" y="5334120"/>
            <a:ext cx="167616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4114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38080" y="4876920"/>
            <a:ext cx="7620120" cy="1600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5867280"/>
            <a:ext cx="121932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6095880"/>
            <a:ext cx="487656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620120" cy="1600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315200" y="2286000"/>
            <a:ext cx="12193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514600"/>
            <a:ext cx="487692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76201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86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9T17:32:16Z</dcterms:modified>
  <cp:revision>210</cp:revision>
  <dc:subject/>
  <dc:title>Slide 1</dc:title>
</cp:coreProperties>
</file>